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2.gif" ContentType="image/gif"/>
  <Override PartName="/ppt/media/whoosh.wav" ContentType="audio/x-wav"/>
  <Override PartName="/ppt/media/image2.gif" ContentType="image/gif"/>
  <Override PartName="/ppt/media/image3.png" ContentType="image/png"/>
  <Override PartName="/ppt/media/image11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cheers%20102.wav" ContentType="audio/x-wav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3429-0633-4E7B-AC6C-0E3BBDFE7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is stuff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kespeare’s Quotable Quotes from 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ricia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is stuff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kespeare’s Quotable Quotes from 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ricia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osaline my ghostly father? No I have forgot that name and that names wo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i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osaline my ghostly father? No I have forgot that name and that names wo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i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is speaking to Friar Law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tells Friar Lawrence that he has forgotten Rosaline and all the heartache associated with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has fallen in love with Juliet and he feels certain of this because he no longer remembers Ros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is speaking to Friar Law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tells Friar Lawrence that he has forgotten Rosaline and all the heartache associated with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has fallen in love with Juliet and he feels certain of this because he no longer remembers Ros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sely and slow.  They stumble that run fas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sely and slow.  They stumble that run fas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v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rence speaks to Romeo about the dangers of rushing into a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erence speaking to Rom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anyone think Romeo is RUSHING into an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v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rence speaks to Romeo about the dangers of rushing into a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erence speaking to Rom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anyone think Romeo is RUSHING into an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do not swear. Although I joy in the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no joy of this contract to 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 116-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do not swear. Although I joy in the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no joy of this contract to 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 116-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says that things are moving too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thinks they cannot swear their love to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will reply 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says that things are moving too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thinks they cannot swear their love to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will reply 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you cotquean, go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iv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you cotquean, go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iv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speaking to Lord Capu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quean – old woman (a man who acts like an old wom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ulet is up tending to the preparations of the fe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most three in the 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making fun of him and trying to send him to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speaking to Lord Capu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quean – old woman (a man who acts like an old wom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ulet is up tending to the preparations of the fe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most three in the 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making fun of him and trying to send him to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 lies on her like an untimely fro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the sweetest flower of the fiel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v 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rd Capulet upon seeing his daughter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too young to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 lies on her like an untimely fro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the sweetest flower of the fiel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v 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rd Capulet upon seeing his daughter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too young to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much to do with hate, but more with lov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child is yet a stranger in the world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hath not seen the change of fourteen year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wo more summers wither in their pr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e we may think her ripe to  be a brid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much to do with hate, but more with lov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child is yet a stranger in the world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hath not seen the change of fourteen year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wo more summers wither in their pr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e we may think her ripe to  be a brid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ope you have a great d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ope you have a great d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ng is such sweet sorrow that I shall say good night till it be mo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ove you and want to be with you all the time – it’s so hard to leave you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ng is such sweet sorrow that I shall say good night till it be mo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ove you and want to be with you all the time – it’s so hard to leave you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…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VE HAD ENOUGH OF YOU TODA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…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VE HAD ENOUGH OF YOU TODA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9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4 (te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daughter Juliet is only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wait two more years, then she will be ready to be mar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9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4 (te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daughter Juliet is only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wait two more years, then she will be ready to be mar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SEARCH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24-2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this up! 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sa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SEARCH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24-2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this up! 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sa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y – my house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, beautiful girls will b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forget about marrying Juliet so s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y – my house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, beautiful girls will b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forget about marrying Juliet so s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be not from the house of Montagues,  I pray come and crush a cup of wine. Rest you mer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82-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be not from the house of Montagues,  I pray come and crush a cup of wine. Rest you mer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82-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re NOT a Montague you are welcome to come to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how Romeo finds out there will be a party and that Rosaline will be the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several lines earlier for confirmation of who will be hosting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re NOT a Montague you are welcome to come to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how Romeo finds out there will be a party and that Rosaline will be the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several lines earlier for confirmation of who will be hosting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girl, seek happy nights to happy day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i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girl, seek happy nights to happy day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i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se is speaking to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her friend and coun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encourages Juliet to find a suitable husband so she can have a happy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se is speaking to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her friend and coun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encourages Juliet to find a suitable husband so she can have a happy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FA12-BE4A-40D3-A49B-6E0CB10A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56E0-E711-4C0D-9709-7283E0A8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B866-AD41-4BD0-99D9-0388F9D0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80E3-9717-4BE1-BD65-FA6C9A45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7C08-9133-4050-8272-399335E9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55BA-8BBA-4B73-B99B-74DEF7AB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9289-EB58-4C88-BFDB-6D95F44F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6C4D-CAA5-475B-94D2-D32AB60D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739A-F33F-4AF7-BABE-3EF52AD2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24C9-1EAE-4EDB-96EC-D6ECD3AF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7567-A1EB-41A3-BB1E-CF796FD3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1CB2-EF85-4F65-8FA6-E9B5424A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F761-DB80-4542-9A48-BAF768D943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eers%20102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gallery2"/>
          <p:cNvPicPr/>
          <p:nvPr/>
        </p:nvPicPr>
        <p:blipFill>
          <a:blip r:embed="rId1"/>
          <a:stretch/>
        </p:blipFill>
        <p:spPr>
          <a:xfrm>
            <a:off x="2286000" y="2286000"/>
            <a:ext cx="4251240" cy="4160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is stuff?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’s Quotable Quotes from Romeo and Juli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514600" y="6095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bitha"/>
              </a:rPr>
              <a:t>By Tricia Co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  <p:sndAc>
      <p:stSnd>
        <p:snd r:embed="rId2" name="cheers%20102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woodstock"/>
          <p:cNvPicPr/>
          <p:nvPr/>
        </p:nvPicPr>
        <p:blipFill>
          <a:blip r:embed="rId1"/>
          <a:stretch/>
        </p:blipFill>
        <p:spPr>
          <a:xfrm>
            <a:off x="4076640" y="228600"/>
            <a:ext cx="1104840" cy="1104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2" name="Picture 4" descr="chuck"/>
          <p:cNvPicPr/>
          <p:nvPr/>
        </p:nvPicPr>
        <p:blipFill>
          <a:blip r:embed="rId2"/>
          <a:stretch/>
        </p:blipFill>
        <p:spPr>
          <a:xfrm>
            <a:off x="2057400" y="457200"/>
            <a:ext cx="1257480" cy="1257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3" name="Picture 5" descr="franklin"/>
          <p:cNvPicPr/>
          <p:nvPr/>
        </p:nvPicPr>
        <p:blipFill>
          <a:blip r:embed="rId3"/>
          <a:stretch/>
        </p:blipFill>
        <p:spPr>
          <a:xfrm>
            <a:off x="914400" y="3619440"/>
            <a:ext cx="1371600" cy="1371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4" name="Picture 6" descr="linus"/>
          <p:cNvPicPr/>
          <p:nvPr/>
        </p:nvPicPr>
        <p:blipFill>
          <a:blip r:embed="rId4"/>
          <a:stretch/>
        </p:blipFill>
        <p:spPr>
          <a:xfrm>
            <a:off x="6248520" y="5181480"/>
            <a:ext cx="1066680" cy="1067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5" name="Picture 7" descr="lucy"/>
          <p:cNvPicPr/>
          <p:nvPr/>
        </p:nvPicPr>
        <p:blipFill>
          <a:blip r:embed="rId5"/>
          <a:stretch/>
        </p:blipFill>
        <p:spPr>
          <a:xfrm>
            <a:off x="4038480" y="5676840"/>
            <a:ext cx="1143000" cy="1143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6" name="Picture 8" descr="marcie"/>
          <p:cNvPicPr/>
          <p:nvPr/>
        </p:nvPicPr>
        <p:blipFill>
          <a:blip r:embed="rId6"/>
          <a:stretch/>
        </p:blipFill>
        <p:spPr>
          <a:xfrm>
            <a:off x="685800" y="1790640"/>
            <a:ext cx="1333440" cy="1333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7" name="Picture 9" descr="patty"/>
          <p:cNvPicPr/>
          <p:nvPr/>
        </p:nvPicPr>
        <p:blipFill>
          <a:blip r:embed="rId7"/>
          <a:stretch/>
        </p:blipFill>
        <p:spPr>
          <a:xfrm>
            <a:off x="7162920" y="3772080"/>
            <a:ext cx="1218960" cy="1218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8" name="Picture 10" descr="pigpen"/>
          <p:cNvPicPr/>
          <p:nvPr/>
        </p:nvPicPr>
        <p:blipFill>
          <a:blip r:embed="rId8"/>
          <a:stretch/>
        </p:blipFill>
        <p:spPr>
          <a:xfrm>
            <a:off x="1600200" y="5372280"/>
            <a:ext cx="1219320" cy="1218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9" name="Picture 11" descr="sally"/>
          <p:cNvPicPr/>
          <p:nvPr/>
        </p:nvPicPr>
        <p:blipFill>
          <a:blip r:embed="rId9"/>
          <a:stretch/>
        </p:blipFill>
        <p:spPr>
          <a:xfrm>
            <a:off x="6019920" y="723960"/>
            <a:ext cx="1143000" cy="1143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90" name="Picture 12" descr="schroeder"/>
          <p:cNvPicPr/>
          <p:nvPr/>
        </p:nvPicPr>
        <p:blipFill>
          <a:blip r:embed="rId10"/>
          <a:stretch/>
        </p:blipFill>
        <p:spPr>
          <a:xfrm>
            <a:off x="6934320" y="2286000"/>
            <a:ext cx="1066680" cy="1066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91" name="Oval 16"/>
          <p:cNvSpPr/>
          <p:nvPr/>
        </p:nvSpPr>
        <p:spPr>
          <a:xfrm>
            <a:off x="2666880" y="1523880"/>
            <a:ext cx="3810240" cy="4038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7" descr="meet_snoopy_big"/>
          <p:cNvPicPr/>
          <p:nvPr/>
        </p:nvPicPr>
        <p:blipFill>
          <a:blip r:embed="rId11"/>
          <a:stretch/>
        </p:blipFill>
        <p:spPr>
          <a:xfrm>
            <a:off x="3479760" y="1914480"/>
            <a:ext cx="2182680" cy="30290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meet_charlie_brown_big"/>
          <p:cNvPicPr/>
          <p:nvPr/>
        </p:nvPicPr>
        <p:blipFill>
          <a:blip r:embed="rId1"/>
          <a:stretch/>
        </p:blipFill>
        <p:spPr>
          <a:xfrm>
            <a:off x="6400800" y="1914480"/>
            <a:ext cx="2057400" cy="3029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752480" y="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5410080" y="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0" y="495288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3657600" y="4946760"/>
            <a:ext cx="1828800" cy="1904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7315200" y="495288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Rosaline my ghostly father? No I have forgot that name and that names woe.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2590920" y="541008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I iii 4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ec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ge 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eo is speaking to Friar Law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eo tells Friar Lawrence that he has forgotten Rosaline and all the heartache associated with 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eo has fallen in love with Juliet and he feels certain of this because he no longer remembers Rosali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snoopy_logo_med"/>
          <p:cNvPicPr/>
          <p:nvPr/>
        </p:nvPicPr>
        <p:blipFill>
          <a:blip r:embed="rId1"/>
          <a:stretch/>
        </p:blipFill>
        <p:spPr>
          <a:xfrm>
            <a:off x="380880" y="990720"/>
            <a:ext cx="1676520" cy="13237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762120" y="342900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51460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419112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867280" y="3422520"/>
            <a:ext cx="838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754380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440" y="1371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sely and slow.  They stumble that run fast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e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8000"/>
          </a:bodyPr>
          <a:p>
            <a:pPr marL="9576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I iv 9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 77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ar Lawrence speaks to Romeo about the dangers of rushing into a situ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iar Lawerence speaking to Rom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ight anyone think Romeo is RUSHING into any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533520" y="3276720"/>
            <a:ext cx="6476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woodstock_football"/>
          <p:cNvPicPr/>
          <p:nvPr/>
        </p:nvPicPr>
        <p:blipFill>
          <a:blip r:embed="rId1"/>
          <a:stretch/>
        </p:blipFill>
        <p:spPr>
          <a:xfrm>
            <a:off x="380880" y="3809880"/>
            <a:ext cx="3932280" cy="2743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, do not swear. Although I joy in the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have no joy of this contract to nig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257800" y="39625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 ii 116-1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afd2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liet says that things are moving too quick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 thinks they cannot swear their love to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meo will reply 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Go, you cotquean, go.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G_Snoopy2"/>
          <p:cNvPicPr/>
          <p:nvPr/>
        </p:nvPicPr>
        <p:blipFill>
          <a:blip r:embed="rId1"/>
          <a:stretch/>
        </p:blipFill>
        <p:spPr>
          <a:xfrm>
            <a:off x="304920" y="3332160"/>
            <a:ext cx="4190760" cy="3068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5257800" y="3733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V iv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 8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rse is speaking to Lord Capu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tquean – old woman (a man who acts like an old wom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ulet is up tending to the preparations of the fea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almost three in the mo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rse is making fun of him and trying to send him to b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th lies on her like an untimely fro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pon the sweetest flower of the field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90920" y="27432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V v 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8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Capulet upon seeing his daughter d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 was too young to d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Snoopy gift"/>
          <p:cNvPicPr/>
          <p:nvPr/>
        </p:nvPicPr>
        <p:blipFill>
          <a:blip r:embed="rId1"/>
          <a:stretch/>
        </p:blipFill>
        <p:spPr>
          <a:xfrm>
            <a:off x="0" y="4267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Snoopy Jumping2"/>
          <p:cNvPicPr/>
          <p:nvPr/>
        </p:nvPicPr>
        <p:blipFill>
          <a:blip r:embed="rId1"/>
          <a:stretch/>
        </p:blipFill>
        <p:spPr>
          <a:xfrm>
            <a:off x="3811680" y="2666880"/>
            <a:ext cx="1520640" cy="99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snoopy3hgv"/>
          <p:cNvPicPr/>
          <p:nvPr/>
        </p:nvPicPr>
        <p:blipFill>
          <a:blip r:embed="rId2"/>
          <a:stretch/>
        </p:blipFill>
        <p:spPr>
          <a:xfrm>
            <a:off x="3811680" y="3657600"/>
            <a:ext cx="1520640" cy="1554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0" y="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“</a:t>
            </a:r>
            <a:r>
              <a:rPr b="1" lang="es-GT" sz="36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here is much to do with hate, but more with lov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y child is yet a stranger in the world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hath not seen the change of fourteen years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two more summers wither in their prid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re we may think her ripe to  be a bride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post snoopy"/>
          <p:cNvPicPr/>
          <p:nvPr/>
        </p:nvPicPr>
        <p:blipFill>
          <a:blip r:embed="rId1"/>
          <a:stretch/>
        </p:blipFill>
        <p:spPr>
          <a:xfrm>
            <a:off x="7238880" y="5029200"/>
            <a:ext cx="1295640" cy="12556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 rot="20682000">
            <a:off x="622080" y="273096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I hope you have </a:t>
            </a:r>
            <a:r>
              <a:rPr b="1" lang="es-GT" sz="4400" spc="-1" strike="noStrike">
                <a:solidFill>
                  <a:srgbClr val="ff0066"/>
                </a:solidFill>
                <a:latin typeface="Book Antiqua"/>
                <a:ea typeface="Times New Roman"/>
              </a:rPr>
              <a:t>a great da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WordArt 9"/>
          <p:cNvSpPr txBox="1"/>
          <p:nvPr/>
        </p:nvSpPr>
        <p:spPr>
          <a:xfrm rot="20609400">
            <a:off x="8726040" y="6618240"/>
            <a:ext cx="341280" cy="74520"/>
          </a:xfrm>
          <a:prstGeom prst="rect">
            <a:avLst/>
          </a:prstGeom>
        </p:spPr>
        <p:txBody>
          <a:bodyPr wrap="none" lIns="90000" rIns="90000" tIns="28080" bIns="2808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00"/>
                    </a:gs>
                    <a:gs pos="100000">
                      <a:srgbClr val="ff0000"/>
                    </a:gs>
                  </a:gsLst>
                  <a:lin ang="20850000"/>
                </a:gradFill>
                <a:latin typeface="Book Antiqua"/>
              </a:rPr>
              <a:t>      </a:t>
            </a:r>
            <a:endParaRPr b="1" lang="en-US" sz="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0000"/>
                  </a:gs>
                  <a:gs pos="100000">
                    <a:srgbClr val="ff0000"/>
                  </a:gs>
                </a:gsLst>
                <a:lin ang="20850000"/>
              </a:gradFill>
              <a:latin typeface="Book Antiqua"/>
              <a:ea typeface="Book Antiqua"/>
            </a:endParaRPr>
          </a:p>
        </p:txBody>
      </p:sp>
    </p:spTree>
  </p:cSld>
  <p:transition spd="med" advTm="8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snoopy seasonal_hockey"/>
          <p:cNvPicPr/>
          <p:nvPr/>
        </p:nvPicPr>
        <p:blipFill>
          <a:blip r:embed="rId1"/>
          <a:stretch/>
        </p:blipFill>
        <p:spPr>
          <a:xfrm>
            <a:off x="304920" y="4791240"/>
            <a:ext cx="2438280" cy="17874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ng is such sweet sorrow that I shall say good night till it be morr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971800" y="419112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love you and want to be with you all the time – it’s so hard to leave you 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BUT … </a:t>
            </a:r>
            <a:br>
              <a:rPr sz="8000"/>
            </a:b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I’VE HAD ENOUGH OF YOU TODAY!!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ii 9-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 744 (tex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daughter Juliet is only 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’s wait two more years, then she will be ready to be marri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edison snoopy"/>
          <p:cNvPicPr/>
          <p:nvPr/>
        </p:nvPicPr>
        <p:blipFill>
          <a:blip r:embed="rId2"/>
          <a:stretch/>
        </p:blipFill>
        <p:spPr>
          <a:xfrm>
            <a:off x="3932280" y="1066680"/>
            <a:ext cx="4983120" cy="4973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281952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 SEARCH!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ii 24-28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k this up! 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eing sa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 7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rty – my house tonigh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ng, beautiful girls will be th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will forget about marrying Juliet so so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066680" y="5335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G_Snoopy2"/>
          <p:cNvPicPr/>
          <p:nvPr/>
        </p:nvPicPr>
        <p:blipFill>
          <a:blip r:embed="rId1"/>
          <a:stretch/>
        </p:blipFill>
        <p:spPr>
          <a:xfrm>
            <a:off x="5410080" y="3886200"/>
            <a:ext cx="3733920" cy="27338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457200" y="304920"/>
            <a:ext cx="7772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f you be not from the house of Montagues,  I pray come and crush a cup of wine. Rest you merr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33520" y="51814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ii 82-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7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you are NOT a Montague you are welcome to come to the pa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how Romeo finds out there will be a party and that Rosaline will be ther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eck several lines earlier for confirmation of who will be hosting the pa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Snoopy gift"/>
          <p:cNvPicPr/>
          <p:nvPr/>
        </p:nvPicPr>
        <p:blipFill>
          <a:blip r:embed="rId1"/>
          <a:stretch/>
        </p:blipFill>
        <p:spPr>
          <a:xfrm>
            <a:off x="228600" y="2438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1752480" y="0"/>
            <a:ext cx="175284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5410080" y="0"/>
            <a:ext cx="175284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369576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739152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girl, seek happy nights to happy day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2743200" y="419112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iii 1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7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rse is speaking to Juli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Nurse is her friend and coun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Nurse encourages Juliet to find a suitable husband so she can have a happy lif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23:17:37Z</dcterms:created>
  <dc:creator/>
  <dc:description/>
  <dc:language>en-US</dc:language>
  <cp:lastModifiedBy>RomaK</cp:lastModifiedBy>
  <dcterms:modified xsi:type="dcterms:W3CDTF">2015-09-04T10:38:29Z</dcterms:modified>
  <cp:revision>32</cp:revision>
  <dc:subject/>
  <dc:title>Romeo and Juliet quotes</dc:title>
</cp:coreProperties>
</file>